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0E1-882D-4FBB-AE16-F2688715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80B7-76EF-4155-8943-BB7FEF0A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2335-DDE7-495D-9C25-DE99696A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99D-57AC-4B20-AD27-87F47F68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CF3-C855-4085-852A-56E10A8C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9A1-BFCC-4A9A-9982-C6C16AA1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F321-B287-49DD-AA35-BD83BB73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FC0E-C932-43FE-811F-FB51985A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E96-8782-4A85-A9B1-06D316D2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68C-011B-4B75-8B30-4410AD2B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C81F-DEDD-42B5-8475-F4C0BFF2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A2D3-661A-4691-83ED-A1AC14C8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B1D0-EAF1-49FF-8E12-7174684AB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-a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Word Famil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429000" y="274320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f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274320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9907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fl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352680" y="4114800"/>
            <a:ext cx="2654280" cy="22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274320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b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76920" y="4419720"/>
            <a:ext cx="1838160" cy="1417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38280" y="4952880"/>
            <a:ext cx="1793880" cy="82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74320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114800" y="4495680"/>
            <a:ext cx="114444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33920" y="2743200"/>
            <a:ext cx="53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f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33920" y="4572000"/>
            <a:ext cx="1847880" cy="15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053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74320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h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00400" y="4572000"/>
            <a:ext cx="2495520" cy="131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00400" y="27432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m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352680" y="4572000"/>
            <a:ext cx="2124360" cy="13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95480" y="274320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274320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8380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p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952880" y="3276720"/>
            <a:ext cx="2613240" cy="286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05320" y="274320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505320" y="4572000"/>
            <a:ext cx="1819080" cy="13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2743200"/>
            <a:ext cx="190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s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62520" y="4572000"/>
            <a:ext cx="1130040" cy="17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3:28:54Z</dcterms:created>
  <dc:creator>Wake County Public Schools</dc:creator>
  <dc:description/>
  <dc:language>en-US</dc:language>
  <cp:lastModifiedBy>beth_ware</cp:lastModifiedBy>
  <dcterms:modified xsi:type="dcterms:W3CDTF">2007-11-27T22:25:30Z</dcterms:modified>
  <cp:revision>6</cp:revision>
  <dc:subject/>
  <dc:title>-ill Word Family</dc:title>
</cp:coreProperties>
</file>